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BA4C3-641B-438D-A5D7-620DBDF7A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F9EFE-8698-460E-89C6-130D5C469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DA2BF-6675-4025-A361-D1AD0D8B2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89582-DB69-46BE-8A22-D5DC82252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5D1B6-4C13-4933-B740-A03C3BFDF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4EC41-02CB-47BD-85E8-ED6A3D402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CAAB1-76D2-45C2-99FF-63B4A1CC3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38CEE-483E-44E3-9E81-32B191A91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33BDE-1574-4FD8-BFD8-FA80083A5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32C9F-237A-4596-A7B9-9674B5037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A18E0-D2B8-4A4C-AD25-C6F55E5A8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2E67F-768A-41E8-8014-E2708688A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864A3-C880-4C25-8F85-D16274DB70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057400" y="5257800"/>
            <a:ext cx="6477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Lost Gene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By Anna Suszynsk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xit" presetID="10">
                                  <p:stCondLst>
                                    <p:cond delay="4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" dur="3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5486040"/>
            <a:ext cx="9144000" cy="662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I realize this may be unfathomable but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“Every man is equal”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Is wrong, and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“Prejudice is inevitable”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o in the future I will tell my grandchildren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hat they are irrelevant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My general will know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my morals are strict and rigorous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war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is more important than 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eace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I reveal this to you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fter I saw my friend die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forgiveness is better than revenge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ut this is false in my country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his is a kill or be killed battlefield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tatistics say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30 years from now I will be assuming the title: invisible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I do not dream that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I will live to see my mother again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omorrow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hunger and destruction will be the norm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no longer can the rebels say that my brothers and I will be safe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it will be clear that this war is revenge and avarice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it is hopeless to believe that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here is hope 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2"/>
          <p:cNvSpPr/>
          <p:nvPr/>
        </p:nvSpPr>
        <p:spPr>
          <a:xfrm>
            <a:off x="0" y="52578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ll of this is true unless we choose to put down the guns and look upon one another is an equ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itle 1"/>
          <p:cNvSpPr/>
          <p:nvPr/>
        </p:nvSpPr>
        <p:spPr>
          <a:xfrm>
            <a:off x="0" y="4191120"/>
            <a:ext cx="9144000" cy="66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 realize this may be unfathomable but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“Every man is equal”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s wrong, and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“Prejudice is inevitable”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 in the future I will tell my grandchildren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at they are irrelevant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y general will know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y morals are strict and rigorous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ar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s more important than 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eace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 reveal this to you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fter I saw my friend die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giveness is better than revenge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ut this is false in my country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is a kill or be killed battlefield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istics say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0 years from now I will be assuming the title: invisible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 do not dream that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 will live to see my mother again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morrow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unger and destruction will be the norm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 longer can the rebels say that my brothers and I will be unsafe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t will be clear that this war is revenge and avarice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t is hopeless to believe that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re is hope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7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7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30T15:52:31Z</dcterms:created>
  <dc:creator>Karl Fisch</dc:creator>
  <dc:description/>
  <dc:language>en-US</dc:language>
  <cp:lastModifiedBy>itsuser</cp:lastModifiedBy>
  <dcterms:modified xsi:type="dcterms:W3CDTF">2010-04-30T17:33:29Z</dcterms:modified>
  <cp:revision>44</cp:revision>
  <dc:subject/>
  <dc:title>line 1 line 2 line 3 line 4 line 5 line 6 line 7 line 8 line 9 line 10 line 11</dc:title>
</cp:coreProperties>
</file>