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AB3-D107-4953-BD3E-400E421A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97C-7FC1-475F-9B13-C5B6D21B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234-2F57-42AB-83C9-7D0F95F0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3E7-014E-4B65-842C-CFF7D776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7B5-C170-41BB-B23E-1B31F672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7B8-B628-4585-AA37-B34BE258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9F4-8718-4AFB-BDEA-E9A2B9EC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CDC-8A36-4C5E-8D92-7718EEB0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FD6-33F3-4E2A-935C-7D77F469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9FC-E8F0-4556-A15C-6344959C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4AE-A53B-43B3-95FC-F59C9752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7E9-A8AC-4EFC-91E3-C005011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6B52-6CD1-4742-9A4A-9470C9807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57400" y="52578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s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y Anna Suszyn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 longer can the rebels say that my brothers and I will be 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 is hope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of this is true unless we choose to put down the guns and look upon one another is an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0" y="419112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longer can the rebels say that my brothers and I will be un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hop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52:31Z</dcterms:created>
  <dc:creator>Karl Fisch</dc:creator>
  <dc:description/>
  <dc:language>en-US</dc:language>
  <cp:lastModifiedBy>itsuser</cp:lastModifiedBy>
  <dcterms:modified xsi:type="dcterms:W3CDTF">2010-04-30T17:33:29Z</dcterms:modified>
  <cp:revision>44</cp:revision>
  <dc:subject/>
  <dc:title>line 1 line 2 line 3 line 4 line 5 line 6 line 7 line 8 line 9 line 10 line 11</dc:title>
</cp:coreProperties>
</file>