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567-9F2B-4CB3-8F70-29A483E9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910-6BD6-44C0-ABF7-FDD11302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50D-4A3A-4E32-8A42-69032DA7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8A6-1F11-48DA-8DD7-162470E7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AF1-70B4-4251-BB67-A16E11C4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654-6E74-4B17-94A0-622B9C22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08F-4FA0-4BE3-BD50-F489017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73E-7225-4A64-B457-922EB04A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AD0-4DA1-491B-9487-11E01DDE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501-8D64-4CF7-A722-437C5454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D26-30B8-4518-82FA-8EE60966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967-E3F8-4742-B0D8-9C5F9C7F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2A94-CB33-4497-B7C1-3B5D78682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57400" y="525780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s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y Anna Suszyn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 longer can the rebels say that my brothers and I will be 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re is hope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5257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of this is true unless we choose to put down the guns and look upon one another is an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0" y="419112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longer can the rebels say that my brothers and I will be un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hop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5:52:31Z</dcterms:created>
  <dc:creator>Karl Fisch</dc:creator>
  <dc:description/>
  <dc:language>en-US</dc:language>
  <cp:lastModifiedBy>itsuser</cp:lastModifiedBy>
  <dcterms:modified xsi:type="dcterms:W3CDTF">2010-04-30T17:33:29Z</dcterms:modified>
  <cp:revision>44</cp:revision>
  <dc:subject/>
  <dc:title>line 1 line 2 line 3 line 4 line 5 line 6 line 7 line 8 line 9 line 10 line 11</dc:title>
</cp:coreProperties>
</file>