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C3D3-4BF8-4085-AD02-3AC373F4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0654-7477-4824-8C51-4F8EFB00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E91-C63C-4BD9-BD3D-A4267A8C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A105-848D-47C7-A69D-A68B68FA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AC0E-827C-4CEC-A365-076A8EC6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1127-7900-404A-B50A-EEA30891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7822-28A4-4C09-B1AF-5076D63D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8CA4-643E-408E-B4A6-EC4EF0A1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AC33-C158-43C5-95D1-B5F5CE05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1E28-F9B1-44C8-BDDC-C059F96F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49E-89CC-4CF8-96A2-4C1801F4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C665-52ED-4D3E-A603-346A3EA5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F421-D2B8-4A84-A773-370C1F377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057400" y="525780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ost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y Anna Suszyn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realize this may be unfathomable bu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“Every man is equal”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s wrong, an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“Prejudice is inevitable”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 in the future I will tell my grandchildre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at they are irrelevan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y general will know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y morals are strict and rigorou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a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s more important than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ac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reveal this to you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fter I saw my friend di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giveness is better than reveng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t this is false in my countr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s is a kill or be killed battlefiel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tistics sa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0 years from now I will be assuming the title: invisibl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do not dream tha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will live to see my mother aga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morrow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unger and destruction will be the norm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 longer can the rebels say that my brothers and I will be saf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t will be clear that this war is revenge and avaric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t is hopeless to believe tha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re is hope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0" y="5257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of this is true unless we choose to put down the guns and look upon one another is an eq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0" y="419112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realize this may be unfathomable bu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Every man is equal”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wrong, an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Prejudice is inevitable”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in the future I will tell my grandchildre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 they are irrelevan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general will know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morals are strict and rigorou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more important than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ac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reveal this to you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ter I saw my friend di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giveness is better than reveng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is is false in my countr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kill or be killed battlefiel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istics sa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 years from now I will be assuming the title: invisibl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do not dream tha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will live to see my mother aga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morrow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nger and destruction will be the norm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longer can the rebels say that my brothers and I will be unsaf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be clear that this war is revenge and avaric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is hopeless to believe tha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hop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7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7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5:52:31Z</dcterms:created>
  <dc:creator>Karl Fisch</dc:creator>
  <dc:description/>
  <dc:language>en-US</dc:language>
  <cp:lastModifiedBy>itsuser</cp:lastModifiedBy>
  <dcterms:modified xsi:type="dcterms:W3CDTF">2010-04-30T17:33:29Z</dcterms:modified>
  <cp:revision>44</cp:revision>
  <dc:subject/>
  <dc:title>line 1 line 2 line 3 line 4 line 5 line 6 line 7 line 8 line 9 line 10 line 11</dc:title>
</cp:coreProperties>
</file>