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5B0-5F3F-4F30-AD14-9620CCF9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DBA-57B6-4E6E-BD77-015338E6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7FC9-2808-4AEB-8F9F-D47C9017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0BA-6930-4995-A831-614D5892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37B-5DBE-4F8D-8A39-C33AE3A0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C07-A034-40F2-8682-99C370CA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F0D-C196-43A1-8EF5-9EA7044A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B42-8082-4D18-AC88-06BA9AE0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516-1D7F-49F8-91AC-15B33A47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07A-2F45-4377-83A4-5AA5984E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A2A-EAFB-4531-A957-00CD6E57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8579-5DA1-4152-82BC-B90144AE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3801-A185-4DF2-8F28-C657A2C12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5257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 Anna Suszyn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longer can the rebels say that my brothers and I will be 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is hope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of this is true unless we choose to put down the guns and look upon one another is an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0" y="419112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onger can the rebels say that my brothers and I will be un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hop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52:31Z</dcterms:created>
  <dc:creator>Karl Fisch</dc:creator>
  <dc:description/>
  <dc:language>en-US</dc:language>
  <cp:lastModifiedBy>itsuser</cp:lastModifiedBy>
  <dcterms:modified xsi:type="dcterms:W3CDTF">2010-04-30T17:33:29Z</dcterms:modified>
  <cp:revision>44</cp:revision>
  <dc:subject/>
  <dc:title>line 1 line 2 line 3 line 4 line 5 line 6 line 7 line 8 line 9 line 10 line 11</dc:title>
</cp:coreProperties>
</file>