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2C7-C4D0-4970-B508-79AA8CCD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9D6-FB59-486A-8CF4-75979FF5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C30-ABE5-4CE0-86C7-ABB152C4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BBF-8305-4140-85A3-5E412036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A70-04E7-4653-91F5-9B5D61FF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2DF-6129-4485-9F78-46532DB4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DC5-8993-4402-9745-26895549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392-FF3B-4133-8619-C6EA44BA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E1C-4DD9-4E98-91DA-32B28180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62C-5AB9-4296-BADB-D88553A4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05B-8B97-4555-9684-3E67ABE1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47C-3D7A-462D-8A97-7E08B21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640E-F44D-42D4-BB2E-4360FFA6B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57400" y="525780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s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y Anna Suszyn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 longer can the rebels say that my brothers and I will be 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re is hope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5257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of this is true unless we choose to put down the guns and look upon one another is an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0" y="419112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longer can the rebels say that my brothers and I will be un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hop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5:52:31Z</dcterms:created>
  <dc:creator>Karl Fisch</dc:creator>
  <dc:description/>
  <dc:language>en-US</dc:language>
  <cp:lastModifiedBy>itsuser</cp:lastModifiedBy>
  <dcterms:modified xsi:type="dcterms:W3CDTF">2010-04-30T17:33:29Z</dcterms:modified>
  <cp:revision>44</cp:revision>
  <dc:subject/>
  <dc:title>line 1 line 2 line 3 line 4 line 5 line 6 line 7 line 8 line 9 line 10 line 11</dc:title>
</cp:coreProperties>
</file>